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rbel"/>
            </a:endParaRPr>
          </a:p>
        </p:txBody>
      </p:sp>
      <p:sp>
        <p:nvSpPr>
          <p:cNvPr id="3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1EBA27-AD6D-4156-AA93-DE6FC97FEA3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F83EA2-1D9F-4786-926C-D52AF4E5FFD3}"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83CC3-6FE1-4DA8-AC4E-42813845F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E7BF2-4728-43C6-B8BA-41236DF3F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598DD0-B3FE-419D-9492-1EED6DEA7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690F82-E8B2-4DFB-998A-1F06CA731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B942D2-0E8F-4723-8CD4-585E74AFCA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FE9B8-5B5B-418A-B10A-2ECC5CE574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F878B7-611A-491D-BAEC-84E167D119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BB505F-3A9F-4015-A9BA-5FC0E2025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836ADA-207E-41BA-8776-8999C638AC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0EB0EC-DF06-44AF-B09E-228006667F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0960B-5D1C-4730-B47C-DF10027D7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5B1DB-91A0-4297-8828-8509262E5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CE9BA-8167-478B-BFDF-FD4086DDE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A85FD-0DC1-4EC0-B423-F072076BF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81148A-5C2F-4608-8E34-90BD65DA5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3F8D05-0E6B-49B5-B73B-67D68C410D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729E1F-B2BD-43A8-8F66-50FBFE7CFC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F8D3B6-9F3E-464F-BD27-B8CC31499E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1FC399-C9DC-4903-8F32-0AF336930E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D0F589-2D29-4509-ACD8-1A69622B4B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B18F4B-584E-49C4-9064-C6258CA883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253435-242F-43A5-836B-622FE549E8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47361-1F98-42A9-B809-9CF796BA8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F86941-19E7-4766-9A58-0DC06AC50B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D5F02A-F827-4912-9A62-8A219D444B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CDF00E-5C22-49F6-BD1D-8696CDFFF4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2477EE-16A8-484F-94C6-D38621EEA8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EFC783-DBCE-4B11-939A-342E5792BD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A32EBF-B821-423E-92B2-674B027913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6FBA99-B960-4207-A0BC-535941179F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23C356-4D1E-4426-A295-9F1376D9EE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0A47A3-E73C-483B-89AC-B9FE61EE13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066717-0B82-400F-920D-1AC1D128F3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E0A53-731B-472C-BA59-68A9E1B75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12BAB7-DB23-4E49-8119-A4AD319D47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1A0827-C9D6-496E-8CB6-799E7BC350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A57802-261A-489C-A5C3-668269C217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8CA892-A7BC-4450-9C7E-5CD410934A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140B52-2616-4DDA-A138-F01DDCF4D8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0AFE96-5C5F-48FD-9045-C894251FA6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F06D58-B960-4CDB-8EFF-B6BD5BCBCF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67CBD9-C290-4516-B403-2F6B2985E3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8FD296-8235-4E55-8F8E-9F2CC20B99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DE8367-4E10-4F3E-B9E3-BE83A6A069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417AE-185C-499C-88CA-3BDA4672D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91C18F-1FD9-4E19-A083-0E4A9E361B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65B0ED-6BE0-423A-A7AF-8FF05B1A2C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779A95-C919-4539-AE6F-1695DC7F30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99B655-BFC7-4EAA-BBCA-0D96B58A70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239C45-C46F-45FE-BC45-AE14F1B0B7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0706FD-E4A9-426F-BDB6-4E18BF9B7F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F72F11-CCDF-4D46-8824-F7EFCEF9B8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7E5040-C01E-4228-9754-3DFDB84542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51428C-B914-491F-9085-04B2130745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93BB30-817D-49CD-8059-900088B93F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6098A-CAFF-4567-9A1B-C046E7F71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63724A-AE7C-4320-8D02-4966340A8D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24303B-C096-4DD3-A5A7-4823D1B0C3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84262C-5813-40CD-B51F-A4F628F1F2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14B2FD-8982-4731-9C7D-542298B1EA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A0C16F-679F-4426-AD81-D2684169FA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43E2A2-A8B0-4AD5-AF73-310347663A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09B8E1-C67D-41AC-B588-7C9D7A5A0B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D7F9D9-0F6B-40E6-8021-379325E4F4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07A759-98F6-4FB5-BDA9-FD86DCB327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0B1B1C-736F-43CA-BFB0-BB9409AF0C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34820-101D-41C3-958D-ECB64B25A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AE6337-9165-4B4F-A17D-F297E08FCA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AF10F0-B802-4467-B5AA-AFEF28A5D8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0E20E0-5633-4994-B38D-0B4F83DC1A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3D9004-1300-4ED0-9FC9-ED8DB6465A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B23172-CE71-4245-B70C-A29C96A6C1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373F9E-B7A5-42C3-B0C0-268C9EDA9B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35A39A-8010-48D1-969B-E32674D32E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84D6C3-95B7-4500-8B9C-95F4C83561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6CB1B1-8750-4663-8FFE-00B1AF06D1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B97877-1C95-4C0F-85A0-53785B4D79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FC16A-9E95-4651-AA5F-D1EF65811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954651-6B98-4590-A792-EDBA6687D7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A25B08-CD74-4559-9BF0-366A36F7BD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6576AE-AC10-4F30-8C7E-C32BB1B4CF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7B75CB-CA7C-46D6-8315-468412E553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0300A8-5B8B-475F-A834-C1EC47663D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EEFCE-0BEE-498C-A61F-44D1CAACBB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6ec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2E5901-C6A7-4E81-9765-B2B0C0979F55}"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6ec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6438A3-BB29-4D03-B61A-81C74FFF4091}"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6ec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85501C-B58D-4EB0-BC15-CC9BED159A9F}"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6ec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F3FB33-717D-4540-8AF7-80615E601CDD}"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6ec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E9F134-CE34-49DD-AAAB-510A5CD1CFA3}"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6ec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3CADA9-8A39-4094-A460-28AB3AC62B88}"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grpSp>
        <p:nvGrpSpPr>
          <p:cNvPr id="315" name="Group 19"/>
          <p:cNvGrpSpPr/>
          <p:nvPr/>
        </p:nvGrpSpPr>
        <p:grpSpPr>
          <a:xfrm>
            <a:off x="8516880" y="1217520"/>
            <a:ext cx="128160" cy="131760"/>
            <a:chOff x="8516880" y="1217520"/>
            <a:chExt cx="128160" cy="131760"/>
          </a:xfrm>
        </p:grpSpPr>
        <p:sp>
          <p:nvSpPr>
            <p:cNvPr id="316" name="Straight Connector 20"/>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17" name="Straight Connector 23"/>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18" name="Straight Connector 24"/>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19" name="Group 25"/>
          <p:cNvGrpSpPr/>
          <p:nvPr/>
        </p:nvGrpSpPr>
        <p:grpSpPr>
          <a:xfrm>
            <a:off x="8669160" y="1370160"/>
            <a:ext cx="128880" cy="131760"/>
            <a:chOff x="8669160" y="1370160"/>
            <a:chExt cx="128880" cy="131760"/>
          </a:xfrm>
        </p:grpSpPr>
        <p:sp>
          <p:nvSpPr>
            <p:cNvPr id="320" name="Straight Connector 26"/>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1" name="Straight Connector 27"/>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2" name="Straight Connector 28"/>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23" name="Group 29"/>
          <p:cNvGrpSpPr/>
          <p:nvPr/>
        </p:nvGrpSpPr>
        <p:grpSpPr>
          <a:xfrm>
            <a:off x="8321760" y="1473120"/>
            <a:ext cx="128160" cy="131760"/>
            <a:chOff x="8321760" y="1473120"/>
            <a:chExt cx="128160" cy="131760"/>
          </a:xfrm>
        </p:grpSpPr>
        <p:sp>
          <p:nvSpPr>
            <p:cNvPr id="324" name="Straight Connector 30"/>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5" name="Straight Connector 31"/>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6" name="Straight Connector 32"/>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6ec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8F146A-93BE-4C0A-A656-4EEB298EE0D1}"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Stress_(physics)"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1" descr=""/>
          <p:cNvPicPr/>
          <p:nvPr/>
        </p:nvPicPr>
        <p:blipFill>
          <a:blip r:embed="rId1"/>
          <a:stretch/>
        </p:blipFill>
        <p:spPr>
          <a:xfrm>
            <a:off x="682560" y="4237200"/>
            <a:ext cx="8010720" cy="2090520"/>
          </a:xfrm>
          <a:prstGeom prst="rect">
            <a:avLst/>
          </a:prstGeom>
          <a:ln w="0">
            <a:noFill/>
          </a:ln>
        </p:spPr>
      </p:pic>
      <p:sp>
        <p:nvSpPr>
          <p:cNvPr id="376" name="PlaceHolder 1"/>
          <p:cNvSpPr>
            <a:spLocks noGrp="1"/>
          </p:cNvSpPr>
          <p:nvPr>
            <p:ph type="subTitle"/>
          </p:nvPr>
        </p:nvSpPr>
        <p:spPr>
          <a:xfrm>
            <a:off x="914400" y="2835000"/>
            <a:ext cx="7772400" cy="1508040"/>
          </a:xfrm>
          <a:prstGeom prst="rect">
            <a:avLst/>
          </a:prstGeom>
          <a:noFill/>
          <a:ln w="0">
            <a:noFill/>
          </a:ln>
        </p:spPr>
        <p:txBody>
          <a:bodyPr lIns="0" rIns="0" tIns="0" bIns="0" anchor="b">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512280"/>
            <a:ext cx="7772400" cy="127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1eeff"/>
                </a:solidFill>
                <a:latin typeface="Consolas"/>
              </a:rPr>
              <a:t>New York Governor Cuomo is deciding if our state should allow hydraulic fracturing.</a:t>
            </a:r>
            <a:br>
              <a:rPr sz="2000"/>
            </a:br>
            <a:br>
              <a:rPr sz="2000"/>
            </a:br>
            <a:r>
              <a:rPr b="0" lang="en-US" sz="2000" spc="-1" strike="noStrike">
                <a:solidFill>
                  <a:srgbClr val="fff483"/>
                </a:solidFill>
                <a:latin typeface="Consolas"/>
              </a:rPr>
              <a:t>Do you think this is a good or bad idea?</a:t>
            </a:r>
            <a:endParaRPr b="0" lang="en-US" sz="2000" spc="-1" strike="noStrike">
              <a:solidFill>
                <a:srgbClr val="c1eeff"/>
              </a:solidFill>
              <a:latin typeface="Consolas"/>
            </a:endParaRPr>
          </a:p>
        </p:txBody>
      </p:sp>
      <p:pic>
        <p:nvPicPr>
          <p:cNvPr id="394" name="Content Placeholder 3" descr="bradford-fracking.jpg"/>
          <p:cNvPicPr/>
          <p:nvPr/>
        </p:nvPicPr>
        <p:blipFill>
          <a:blip r:embed="rId1"/>
          <a:srcRect l="-14624" t="0" r="-14624" b="0"/>
          <a:stretch/>
        </p:blipFill>
        <p:spPr>
          <a:xfrm>
            <a:off x="914400" y="2351160"/>
            <a:ext cx="7772400" cy="4005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eeff"/>
                </a:solidFill>
                <a:latin typeface="Consolas"/>
              </a:rPr>
              <a:t>Your letter should start with:</a:t>
            </a:r>
            <a:endParaRPr b="0" lang="en-US" sz="2400" spc="-1" strike="noStrike">
              <a:solidFill>
                <a:srgbClr val="c1eeff"/>
              </a:solidFill>
              <a:latin typeface="Consolas"/>
            </a:endParaRPr>
          </a:p>
        </p:txBody>
      </p:sp>
      <p:sp>
        <p:nvSpPr>
          <p:cNvPr id="396" name=""/>
          <p:cNvSpPr txBox="1"/>
          <p:nvPr/>
        </p:nvSpPr>
        <p:spPr>
          <a:xfrm>
            <a:off x="512640" y="1784520"/>
            <a:ext cx="8382240" cy="4572000"/>
          </a:xfrm>
          <a:prstGeom prst="rect">
            <a:avLst/>
          </a:prstGeom>
          <a:noFill/>
          <a:ln w="0">
            <a:noFill/>
          </a:ln>
        </p:spPr>
        <p:txBody>
          <a:bodyPr lIns="90000" rIns="90000" tIns="46800" bIns="46800"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e Honorable Andrew M. Cuomo</a:t>
            </a:r>
            <a:endParaRPr b="0" lang="en-US" sz="28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Governor of New York State</a:t>
            </a:r>
            <a:endParaRPr b="0" lang="en-US" sz="28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NYS State Capitol Building</a:t>
            </a:r>
            <a:endParaRPr b="0" lang="en-US" sz="28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lbany, NY  12224</a:t>
            </a:r>
            <a:endParaRPr b="0" lang="en-US" sz="28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Dear Governor Cuomo,</a:t>
            </a:r>
            <a:endParaRPr b="0" lang="en-US" sz="28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I am (in favor or against) hydraulic fracturing because…</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78" name=""/>
          <p:cNvSpPr txBox="1"/>
          <p:nvPr/>
        </p:nvSpPr>
        <p:spPr>
          <a:xfrm>
            <a:off x="457200" y="1417680"/>
            <a:ext cx="8229600" cy="4890960"/>
          </a:xfrm>
          <a:prstGeom prst="rect">
            <a:avLst/>
          </a:prstGeom>
          <a:noFill/>
          <a:ln w="0">
            <a:noFill/>
          </a:ln>
        </p:spPr>
        <p:txBody>
          <a:bodyPr lIns="90000" rIns="90000" tIns="46800" bIns="46800" anchor="t">
            <a:normAutofit/>
          </a:bodyPr>
          <a:p>
            <a:pPr marL="411120" indent="-342720" algn="ctr">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The word </a:t>
            </a:r>
            <a:r>
              <a:rPr b="0" lang="en-US" sz="3600" spc="-1" strike="noStrike">
                <a:solidFill>
                  <a:srgbClr val="fff483"/>
                </a:solidFill>
                <a:latin typeface="Corbel"/>
              </a:rPr>
              <a:t>"hydraulics" </a:t>
            </a:r>
            <a:r>
              <a:rPr b="0" lang="en-US" sz="3600" spc="-1" strike="noStrike">
                <a:solidFill>
                  <a:srgbClr val="ffffff"/>
                </a:solidFill>
                <a:latin typeface="Corbel"/>
              </a:rPr>
              <a:t>originates from </a:t>
            </a:r>
            <a:r>
              <a:rPr b="0" i="1" lang="en-US" sz="3600" spc="-1" strike="noStrike">
                <a:solidFill>
                  <a:srgbClr val="8be6ff"/>
                </a:solidFill>
                <a:latin typeface="Corbel"/>
              </a:rPr>
              <a:t>hydor</a:t>
            </a:r>
            <a:r>
              <a:rPr b="0" lang="en-US" sz="3600" spc="-1" strike="noStrike">
                <a:solidFill>
                  <a:srgbClr val="ffffff"/>
                </a:solidFill>
                <a:latin typeface="Corbel"/>
              </a:rPr>
              <a:t>, the Greek word for water and </a:t>
            </a:r>
            <a:r>
              <a:rPr b="0" i="1" lang="en-US" sz="3600" spc="-1" strike="noStrike">
                <a:solidFill>
                  <a:srgbClr val="61b6ff"/>
                </a:solidFill>
                <a:latin typeface="Corbel"/>
              </a:rPr>
              <a:t>aulos</a:t>
            </a:r>
            <a:r>
              <a:rPr b="0" lang="en-US" sz="3600" spc="-1" strike="noStrike">
                <a:solidFill>
                  <a:srgbClr val="ffffff"/>
                </a:solidFill>
                <a:latin typeface="Corbel"/>
              </a:rPr>
              <a:t>, meaning pipe. </a:t>
            </a:r>
            <a:endParaRPr b="0" lang="en-US" sz="3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80"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lgn="ctr">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A </a:t>
            </a:r>
            <a:r>
              <a:rPr b="1" lang="en-US" sz="3600" spc="-1" strike="noStrike">
                <a:solidFill>
                  <a:srgbClr val="ffffff"/>
                </a:solidFill>
                <a:latin typeface="Corbel"/>
              </a:rPr>
              <a:t>fracture is the (local) separation of an object or material into two, or more, pieces under the action of </a:t>
            </a:r>
            <a:r>
              <a:rPr b="0" lang="en-US" sz="3600" spc="-1" strike="noStrike" u="sng">
                <a:solidFill>
                  <a:srgbClr val="eb8803"/>
                </a:solidFill>
                <a:uFillTx/>
                <a:latin typeface="Corbel"/>
                <a:hlinkClick r:id="rId1"/>
              </a:rPr>
              <a:t>stress.</a:t>
            </a:r>
            <a:endParaRPr b="0" lang="en-US" sz="3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680"/>
            <a:ext cx="82296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1eeff"/>
                </a:solidFill>
                <a:latin typeface="Consolas"/>
              </a:rPr>
              <a:t>Hydraulic Fracturing is used to get natural gas from shale rock. It is also called “fracking” for natural gas.</a:t>
            </a:r>
            <a:endParaRPr b="0" lang="en-US" sz="1800" spc="-1" strike="noStrike">
              <a:solidFill>
                <a:srgbClr val="c1eeff"/>
              </a:solidFill>
              <a:latin typeface="Consolas"/>
            </a:endParaRPr>
          </a:p>
        </p:txBody>
      </p:sp>
      <p:pic>
        <p:nvPicPr>
          <p:cNvPr id="382" name="Hydraulic Fracturing- Shale Natural Gas Extraction.mp4" descr=""/>
          <p:cNvPicPr/>
          <p:nvPr/>
        </p:nvPicPr>
        <p:blipFill>
          <a:blip r:embed="rId1"/>
          <a:stretch/>
        </p:blipFill>
        <p:spPr>
          <a:xfrm>
            <a:off x="1308240" y="1847880"/>
            <a:ext cx="6984720" cy="444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382"/>
                    </p:tgtEl>
                  </p:cond>
                </p:stCondLst>
                <p:childTnLst>
                  <p:par>
                    <p:cTn id="3" fill="hold">
                      <p:stCondLst>
                        <p:cond evt="onClick">
                          <p:tgtEl>
                            <p:spTgt spid="382"/>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3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1eeff"/>
                </a:solidFill>
                <a:latin typeface="Consolas"/>
              </a:rPr>
              <a:t>One of the world’s largest shale areas is called the Marcellus Shale formation and was named after the town Marcellus in New York State. It contains vast amounts of natural gas, which is an important energy source.</a:t>
            </a:r>
            <a:endParaRPr b="0" lang="en-US" sz="1600" spc="-1" strike="noStrike">
              <a:solidFill>
                <a:srgbClr val="c1eeff"/>
              </a:solidFill>
              <a:latin typeface="Consolas"/>
            </a:endParaRPr>
          </a:p>
        </p:txBody>
      </p:sp>
      <p:pic>
        <p:nvPicPr>
          <p:cNvPr id="384" name="Content Placeholder 3" descr="marcellus shale.jpg"/>
          <p:cNvPicPr/>
          <p:nvPr/>
        </p:nvPicPr>
        <p:blipFill>
          <a:blip r:embed="rId1"/>
          <a:srcRect l="-46306" t="0" r="-46306" b="0"/>
          <a:stretch/>
        </p:blipFill>
        <p:spPr>
          <a:xfrm>
            <a:off x="914400" y="1784520"/>
            <a:ext cx="7772400" cy="45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1eeff"/>
                </a:solidFill>
                <a:latin typeface="Consolas"/>
              </a:rPr>
              <a:t>There are other parts of the United States where natural gas is found and being drilled for.</a:t>
            </a:r>
            <a:endParaRPr b="0" lang="en-US" sz="2000" spc="-1" strike="noStrike">
              <a:solidFill>
                <a:srgbClr val="c1eeff"/>
              </a:solidFill>
              <a:latin typeface="Consolas"/>
            </a:endParaRPr>
          </a:p>
        </p:txBody>
      </p:sp>
      <p:pic>
        <p:nvPicPr>
          <p:cNvPr id="386" name="Content Placeholder 3" descr="shale-gas-map.jpg"/>
          <p:cNvPicPr/>
          <p:nvPr/>
        </p:nvPicPr>
        <p:blipFill>
          <a:blip r:embed="rId1"/>
          <a:srcRect l="-55726" t="0" r="-55726" b="0"/>
          <a:stretch/>
        </p:blipFill>
        <p:spPr>
          <a:xfrm>
            <a:off x="-511200" y="1784520"/>
            <a:ext cx="10558440" cy="45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284040"/>
            <a:ext cx="7772400" cy="1500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1eeff"/>
                </a:solidFill>
                <a:latin typeface="Consolas"/>
              </a:rPr>
              <a:t>Gas companies, politicians, businesses, and some communities want Hydraulic Fracturing because they say it will create new jobs, help the local economy, and we will use less foreign oil.</a:t>
            </a:r>
            <a:endParaRPr b="0" lang="en-US" sz="2000" spc="-1" strike="noStrike">
              <a:solidFill>
                <a:srgbClr val="c1eeff"/>
              </a:solidFill>
              <a:latin typeface="Consolas"/>
            </a:endParaRPr>
          </a:p>
        </p:txBody>
      </p:sp>
      <p:pic>
        <p:nvPicPr>
          <p:cNvPr id="388" name="Content Placeholder 3" descr="bilde.jpg"/>
          <p:cNvPicPr/>
          <p:nvPr/>
        </p:nvPicPr>
        <p:blipFill>
          <a:blip r:embed="rId1"/>
          <a:srcRect l="-6299" t="0" r="-6299" b="0"/>
          <a:stretch/>
        </p:blipFill>
        <p:spPr>
          <a:xfrm>
            <a:off x="930240" y="1784520"/>
            <a:ext cx="777240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1eeff"/>
                </a:solidFill>
                <a:latin typeface="Consolas"/>
              </a:rPr>
              <a:t>Many other people are against fracking because they don’t think it is safe and feel there are cleaner ways to get energy.</a:t>
            </a:r>
            <a:endParaRPr b="0" lang="en-US" sz="2000" spc="-1" strike="noStrike">
              <a:solidFill>
                <a:srgbClr val="c1eeff"/>
              </a:solidFill>
              <a:latin typeface="Consolas"/>
            </a:endParaRPr>
          </a:p>
        </p:txBody>
      </p:sp>
      <p:pic>
        <p:nvPicPr>
          <p:cNvPr id="390" name="Content Placeholder 3" descr="fracking-signs.jpg"/>
          <p:cNvPicPr/>
          <p:nvPr/>
        </p:nvPicPr>
        <p:blipFill>
          <a:blip r:embed="rId1"/>
          <a:srcRect l="-17798" t="0" r="-17798" b="0"/>
          <a:stretch/>
        </p:blipFill>
        <p:spPr>
          <a:xfrm>
            <a:off x="914400" y="1784520"/>
            <a:ext cx="777240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512280"/>
            <a:ext cx="7772400" cy="2559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1eeff"/>
                </a:solidFill>
                <a:latin typeface="Consolas"/>
              </a:rPr>
              <a:t>Some people that live near drilling wells have had their water</a:t>
            </a:r>
            <a:br>
              <a:rPr sz="1800"/>
            </a:br>
            <a:r>
              <a:rPr b="0" lang="en-US" sz="1800" spc="-1" strike="noStrike">
                <a:solidFill>
                  <a:srgbClr val="c1eeff"/>
                </a:solidFill>
                <a:latin typeface="Consolas"/>
              </a:rPr>
              <a:t>contaminated with chemicals. People worry that they will get sick from it, but gas companies say it is not from hydraulic fracturing. </a:t>
            </a:r>
            <a:endParaRPr b="0" lang="en-US" sz="1800" spc="-1" strike="noStrike">
              <a:solidFill>
                <a:srgbClr val="c1eeff"/>
              </a:solidFill>
              <a:latin typeface="Consolas"/>
            </a:endParaRPr>
          </a:p>
        </p:txBody>
      </p:sp>
      <p:pic>
        <p:nvPicPr>
          <p:cNvPr id="392" name="Content Placeholder 3" descr="fracking_Dimock-PA.jpg"/>
          <p:cNvPicPr/>
          <p:nvPr/>
        </p:nvPicPr>
        <p:blipFill>
          <a:blip r:embed="rId1"/>
          <a:srcRect l="-6307" t="0" r="-6307" b="0"/>
          <a:stretch/>
        </p:blipFill>
        <p:spPr>
          <a:xfrm>
            <a:off x="914400" y="1784520"/>
            <a:ext cx="777240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5T02:57:13Z</dcterms:created>
  <dc:creator>victoria street</dc:creator>
  <dc:description/>
  <dc:language>en-US</dc:language>
  <cp:lastModifiedBy>vicki</cp:lastModifiedBy>
  <dcterms:modified xsi:type="dcterms:W3CDTF">2012-03-12T12:19:02Z</dcterms:modified>
  <cp:revision>7</cp:revision>
  <dc:subject/>
  <dc:title>What is Hydraulic Fracturing?</dc:title>
</cp:coreProperties>
</file>